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A38-E1C2-4FE6-AE8F-F2D06D69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6B5-1AA2-4D30-8243-158DC76E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5B2-1A6A-4E7B-897B-30C66118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672-2154-47A9-98B2-B698E74B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924-6E85-4C43-B7D3-8141F2DA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598-1ACC-4E55-9C82-3345AFC3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E64-47EF-41A1-8356-F1B07685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060-233D-40D9-AE32-D0C01433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CD8-32AF-494F-8766-0453A356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BF7-F7A1-49E4-98F4-36C1D151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D69-CC0A-4BF4-9458-1452EB78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CA7-BA99-497B-8AAD-4E271864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E604-22C1-4BC0-9274-F756EA8636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f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99cc00"/>
                </a:solidFill>
                <a:latin typeface="Monotype Corsiva"/>
              </a:rPr>
              <a:t>Declinaciones </a:t>
            </a:r>
            <a:br>
              <a:rPr sz="9600"/>
            </a:br>
            <a:r>
              <a:rPr b="1" lang="es-ES" sz="9600" spc="-1" strike="noStrike">
                <a:solidFill>
                  <a:srgbClr val="99cc00"/>
                </a:solidFill>
                <a:latin typeface="Monotype Corsiva"/>
              </a:rPr>
              <a:t>de la </a:t>
            </a:r>
            <a:br>
              <a:rPr sz="9600"/>
            </a:br>
            <a:r>
              <a:rPr b="1" lang="es-ES" sz="9600" spc="-1" strike="noStrike">
                <a:solidFill>
                  <a:srgbClr val="99cc00"/>
                </a:solidFill>
                <a:latin typeface="Monotype Corsiva"/>
              </a:rPr>
              <a:t>lengua Lati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</a:rPr>
              <a:t>Declinar consiste en un ejercicio muy útil, mediante el cual repasarás todas las posibles terminaciones o desinencias de una palabra. Observa el siguiente cuad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2421000"/>
          <a:ext cx="8848800" cy="2712960"/>
        </p:xfrm>
        <a:graphic>
          <a:graphicData uri="http://schemas.openxmlformats.org/drawingml/2006/table">
            <a:tbl>
              <a:tblPr/>
              <a:tblGrid>
                <a:gridCol w="1327320"/>
                <a:gridCol w="2736720"/>
                <a:gridCol w="2973600"/>
                <a:gridCol w="868320"/>
                <a:gridCol w="9428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 en la fr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ucción del 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20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s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l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jeto/atrib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am./Llamada/Salu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Directo / Ccl a dó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del No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In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Circunstan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, una) or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¡(la, una) orilla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 la or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 or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para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or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, con , en , por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or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000000"/>
                </a:solidFill>
                <a:latin typeface="Monotype Corsiva"/>
              </a:rPr>
              <a:t>Primera Declinació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84360" y="1844640"/>
          <a:ext cx="4575240" cy="4525920"/>
        </p:xfrm>
        <a:graphic>
          <a:graphicData uri="http://schemas.openxmlformats.org/drawingml/2006/table">
            <a:tbl>
              <a:tblPr/>
              <a:tblGrid>
                <a:gridCol w="1967040"/>
                <a:gridCol w="1492200"/>
                <a:gridCol w="111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onotype Corsiva"/>
              </a:rPr>
              <a:t>Realizado por:     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</a:rPr>
              <a:t>Albano Cama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onotype Corsiva"/>
              </a:rPr>
              <a:t>Biografía:       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</a:rPr>
              <a:t>Libro de Latín – Quorum Edit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onotype Corsiva"/>
              </a:rPr>
              <a:t>(Fco. Vera Bustamante y M. Luisa Aguinaga Del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3:30:55Z</dcterms:created>
  <dc:creator>Albano</dc:creator>
  <dc:description/>
  <dc:language>en-US</dc:language>
  <cp:lastModifiedBy>AUDIOLEASK</cp:lastModifiedBy>
  <dcterms:modified xsi:type="dcterms:W3CDTF">2012-12-16T15:48:56Z</dcterms:modified>
  <cp:revision>3</cp:revision>
  <dc:subject/>
  <dc:title>Declinaciones  de la  lengua Latina</dc:title>
</cp:coreProperties>
</file>